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D03D3-1DF6-4635-8FFA-37C06A0F5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703CB-FC39-48B6-9EF5-EDF17E182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63470-8CDA-4728-B25F-029B590AF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F047B-EF20-4174-B104-625A931DC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4D98C-B3F2-4126-83BB-BE33BD7B2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DB4FE-964C-47B7-AD44-22947622D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DDD71-5ADF-48DC-B224-2F17D27F1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5A71C-31F6-4B5C-8CE8-CA85F5741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55C1C-2A35-459B-9808-6FD423FA9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9E0C4-5E6D-4392-BA96-16F7E01E0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83A18-2B7C-4064-95E8-CBAC76135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70CBA-584B-472E-BAF7-6CE31B241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38F9-B477-4FA0-849D-13B2021042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42"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ul Gottlieb Nipkow</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uenburg, hoy Lebork, Polonia, 1860-Berlín, 1940) Ingeniero alemán. Se graduó en su ciudad natal. Se le considera uno de los pioneros de la televisió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43" name="" descr=""/>
          <p:cNvPicPr/>
          <p:nvPr/>
        </p:nvPicPr>
        <p:blipFill>
          <a:blip r:embed="rId1"/>
          <a:stretch/>
        </p:blipFill>
        <p:spPr>
          <a:xfrm>
            <a:off x="620640" y="1547640"/>
            <a:ext cx="2051280" cy="2305080"/>
          </a:xfrm>
          <a:prstGeom prst="rect">
            <a:avLst/>
          </a:prstGeom>
          <a:ln w="0">
            <a:noFill/>
          </a:ln>
        </p:spPr>
      </p:pic>
      <p:pic>
        <p:nvPicPr>
          <p:cNvPr id="44" name="" descr=""/>
          <p:cNvPicPr/>
          <p:nvPr/>
        </p:nvPicPr>
        <p:blipFill>
          <a:blip r:embed="rId2"/>
          <a:stretch/>
        </p:blipFill>
        <p:spPr>
          <a:xfrm>
            <a:off x="2924280" y="2124000"/>
            <a:ext cx="2665440" cy="124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73"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Western" de 1929</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74" name="" descr=""/>
          <p:cNvPicPr/>
          <p:nvPr/>
        </p:nvPicPr>
        <p:blipFill>
          <a:blip r:embed="rId1"/>
          <a:stretch/>
        </p:blipFill>
        <p:spPr>
          <a:xfrm>
            <a:off x="1125360" y="3203640"/>
            <a:ext cx="4110120" cy="46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76" name=""/>
          <p:cNvGraphicFramePr/>
          <p:nvPr/>
        </p:nvGraphicFramePr>
        <p:xfrm>
          <a:off x="69228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aird" de 193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77" name="" descr=""/>
          <p:cNvPicPr/>
          <p:nvPr/>
        </p:nvPicPr>
        <p:blipFill>
          <a:blip r:embed="rId1"/>
          <a:stretch/>
        </p:blipFill>
        <p:spPr>
          <a:xfrm>
            <a:off x="981000" y="3564000"/>
            <a:ext cx="4608720" cy="402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79"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elevisor RCA de 1946</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0" name="" descr=""/>
          <p:cNvPicPr/>
          <p:nvPr/>
        </p:nvPicPr>
        <p:blipFill>
          <a:blip r:embed="rId1"/>
          <a:stretch/>
        </p:blipFill>
        <p:spPr>
          <a:xfrm>
            <a:off x="1484280" y="2916360"/>
            <a:ext cx="327672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82"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Primer televisor color comercial RCA de 1954.</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3" name="" descr=""/>
          <p:cNvPicPr/>
          <p:nvPr/>
        </p:nvPicPr>
        <p:blipFill>
          <a:blip r:embed="rId1"/>
          <a:stretch/>
        </p:blipFill>
        <p:spPr>
          <a:xfrm>
            <a:off x="1341360" y="2700360"/>
            <a:ext cx="370044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85"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RCA blanco y negro con convertidor a color de 1955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6" name="" descr=""/>
          <p:cNvPicPr/>
          <p:nvPr/>
        </p:nvPicPr>
        <p:blipFill>
          <a:blip r:embed="rId1"/>
          <a:stretch/>
        </p:blipFill>
        <p:spPr>
          <a:xfrm>
            <a:off x="1413000" y="3348000"/>
            <a:ext cx="3566880" cy="4681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88"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Philco de 1959.</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9" name="" descr=""/>
          <p:cNvPicPr/>
          <p:nvPr/>
        </p:nvPicPr>
        <p:blipFill>
          <a:blip r:embed="rId1"/>
          <a:stretch/>
        </p:blipFill>
        <p:spPr>
          <a:xfrm>
            <a:off x="1052640" y="2987640"/>
            <a:ext cx="4321080" cy="401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91"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Philco "Continental" de 1960.</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2" name="" descr=""/>
          <p:cNvPicPr/>
          <p:nvPr/>
        </p:nvPicPr>
        <p:blipFill>
          <a:blip r:embed="rId1"/>
          <a:stretch/>
        </p:blipFill>
        <p:spPr>
          <a:xfrm>
            <a:off x="1700280" y="2556000"/>
            <a:ext cx="2790720" cy="51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94"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Brionvega "Cubo" de 1969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5" name="" descr=""/>
          <p:cNvPicPr/>
          <p:nvPr/>
        </p:nvPicPr>
        <p:blipFill>
          <a:blip r:embed="rId1"/>
          <a:stretch/>
        </p:blipFill>
        <p:spPr>
          <a:xfrm>
            <a:off x="1484280" y="2987640"/>
            <a:ext cx="3486240" cy="475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97"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Philco-Ford de 1973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8" name="" descr=""/>
          <p:cNvPicPr/>
          <p:nvPr/>
        </p:nvPicPr>
        <p:blipFill>
          <a:blip r:embed="rId1"/>
          <a:stretch/>
        </p:blipFill>
        <p:spPr>
          <a:xfrm>
            <a:off x="1052640" y="2987640"/>
            <a:ext cx="4248000" cy="369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100"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Televisor color Zenith de 1977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01" name="" descr=""/>
          <p:cNvPicPr/>
          <p:nvPr/>
        </p:nvPicPr>
        <p:blipFill>
          <a:blip r:embed="rId1"/>
          <a:stretch/>
        </p:blipFill>
        <p:spPr>
          <a:xfrm>
            <a:off x="981000" y="2987640"/>
            <a:ext cx="4284720" cy="432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46"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isco de  Nipkow</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47" name="" descr=""/>
          <p:cNvPicPr/>
          <p:nvPr/>
        </p:nvPicPr>
        <p:blipFill>
          <a:blip r:embed="rId1"/>
          <a:stretch/>
        </p:blipFill>
        <p:spPr>
          <a:xfrm>
            <a:off x="907920" y="2700360"/>
            <a:ext cx="1729080" cy="1693800"/>
          </a:xfrm>
          <a:prstGeom prst="rect">
            <a:avLst/>
          </a:prstGeom>
          <a:ln w="0">
            <a:noFill/>
          </a:ln>
        </p:spPr>
      </p:pic>
      <p:pic>
        <p:nvPicPr>
          <p:cNvPr id="48" name="" descr=""/>
          <p:cNvPicPr/>
          <p:nvPr/>
        </p:nvPicPr>
        <p:blipFill>
          <a:blip r:embed="rId2"/>
          <a:stretch/>
        </p:blipFill>
        <p:spPr>
          <a:xfrm>
            <a:off x="3068640" y="2771640"/>
            <a:ext cx="2303640" cy="1648080"/>
          </a:xfrm>
          <a:prstGeom prst="rect">
            <a:avLst/>
          </a:prstGeom>
          <a:ln w="0">
            <a:noFill/>
          </a:ln>
        </p:spPr>
      </p:pic>
      <p:pic>
        <p:nvPicPr>
          <p:cNvPr id="49" name="" descr=""/>
          <p:cNvPicPr/>
          <p:nvPr/>
        </p:nvPicPr>
        <p:blipFill>
          <a:blip r:embed="rId3"/>
          <a:stretch/>
        </p:blipFill>
        <p:spPr>
          <a:xfrm>
            <a:off x="907920" y="4788000"/>
            <a:ext cx="2089440" cy="1571400"/>
          </a:xfrm>
          <a:prstGeom prst="rect">
            <a:avLst/>
          </a:prstGeom>
          <a:ln w="0">
            <a:noFill/>
          </a:ln>
        </p:spPr>
      </p:pic>
      <p:pic>
        <p:nvPicPr>
          <p:cNvPr id="50" name="" descr=""/>
          <p:cNvPicPr/>
          <p:nvPr/>
        </p:nvPicPr>
        <p:blipFill>
          <a:blip r:embed="rId4"/>
          <a:stretch/>
        </p:blipFill>
        <p:spPr>
          <a:xfrm>
            <a:off x="3141720" y="6516720"/>
            <a:ext cx="2232000" cy="168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103"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Televisor color Magnavox de 1980</a:t>
                      </a:r>
                      <a:r>
                        <a:rPr b="0" lang="es-ES" sz="2800" spc="-1" strike="noStrike">
                          <a:solidFill>
                            <a:srgbClr val="000000"/>
                          </a:solidFill>
                          <a:latin typeface="Arial"/>
                        </a:rPr>
                        <a:t> </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04" name="" descr=""/>
          <p:cNvPicPr/>
          <p:nvPr/>
        </p:nvPicPr>
        <p:blipFill>
          <a:blip r:embed="rId1"/>
          <a:stretch/>
        </p:blipFill>
        <p:spPr>
          <a:xfrm>
            <a:off x="1052640" y="3780000"/>
            <a:ext cx="4464000" cy="305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106"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En los años 90 aparece el televisor de alta definición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07" name="" descr=""/>
          <p:cNvPicPr/>
          <p:nvPr/>
        </p:nvPicPr>
        <p:blipFill>
          <a:blip r:embed="rId1"/>
          <a:stretch/>
        </p:blipFill>
        <p:spPr>
          <a:xfrm>
            <a:off x="981000" y="3780000"/>
            <a:ext cx="4535640" cy="374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pSp>
        <p:nvGrpSpPr>
          <p:cNvPr id="109" name=""/>
          <p:cNvGrpSpPr/>
          <p:nvPr/>
        </p:nvGrpSpPr>
        <p:grpSpPr>
          <a:xfrm>
            <a:off x="620640" y="1547640"/>
            <a:ext cx="5388120" cy="1984680"/>
            <a:chOff x="620640" y="1547640"/>
            <a:chExt cx="5388120" cy="1984680"/>
          </a:xfrm>
        </p:grpSpPr>
        <p:sp>
          <p:nvSpPr>
            <p:cNvPr id="110" name=""/>
            <p:cNvSpPr/>
            <p:nvPr/>
          </p:nvSpPr>
          <p:spPr>
            <a:xfrm>
              <a:off x="620640" y="1619280"/>
              <a:ext cx="36003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 televisión: Imagen y so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de las pinturas rupestres hasta la cámara fotográfica, el ser humano siempre ha buscado difundir aspectos de sí mismo y del mundo que lo rodea. La televisión es el medio óptimo para esto, pues no solo combina y transmite el sonido e imagen, sino que también se ha convertido en un vehículo de enorme influencia en el mundo actual.</a:t>
              </a:r>
              <a:endParaRPr b="0" lang="en-US" sz="1200" spc="-1" strike="noStrike">
                <a:solidFill>
                  <a:srgbClr val="000000"/>
                </a:solidFill>
                <a:latin typeface="Arial"/>
              </a:endParaRPr>
            </a:p>
          </p:txBody>
        </p:sp>
        <p:pic>
          <p:nvPicPr>
            <p:cNvPr id="111" name="" descr=""/>
            <p:cNvPicPr/>
            <p:nvPr/>
          </p:nvPicPr>
          <p:blipFill>
            <a:blip r:embed="rId1"/>
            <a:stretch/>
          </p:blipFill>
          <p:spPr>
            <a:xfrm>
              <a:off x="4508640" y="1547640"/>
              <a:ext cx="1368360" cy="911520"/>
            </a:xfrm>
            <a:prstGeom prst="rect">
              <a:avLst/>
            </a:prstGeom>
            <a:ln w="0">
              <a:noFill/>
            </a:ln>
          </p:spPr>
        </p:pic>
        <p:pic>
          <p:nvPicPr>
            <p:cNvPr id="112" name="" descr=""/>
            <p:cNvPicPr/>
            <p:nvPr/>
          </p:nvPicPr>
          <p:blipFill>
            <a:blip r:embed="rId2"/>
            <a:stretch/>
          </p:blipFill>
          <p:spPr>
            <a:xfrm>
              <a:off x="4437000" y="2484360"/>
              <a:ext cx="1571760" cy="1047960"/>
            </a:xfrm>
            <a:prstGeom prst="rect">
              <a:avLst/>
            </a:prstGeom>
            <a:ln w="0">
              <a:noFill/>
            </a:ln>
          </p:spPr>
        </p:pic>
      </p:grpSp>
      <p:sp>
        <p:nvSpPr>
          <p:cNvPr id="113" name=""/>
          <p:cNvSpPr/>
          <p:nvPr/>
        </p:nvSpPr>
        <p:spPr>
          <a:xfrm>
            <a:off x="476280" y="3780000"/>
            <a:ext cx="619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 name=""/>
          <p:cNvGrpSpPr/>
          <p:nvPr/>
        </p:nvGrpSpPr>
        <p:grpSpPr>
          <a:xfrm>
            <a:off x="765000" y="4140360"/>
            <a:ext cx="5388120" cy="1983960"/>
            <a:chOff x="765000" y="4140360"/>
            <a:chExt cx="5388120" cy="1983960"/>
          </a:xfrm>
        </p:grpSpPr>
        <p:sp>
          <p:nvSpPr>
            <p:cNvPr id="115" name=""/>
            <p:cNvSpPr/>
            <p:nvPr/>
          </p:nvSpPr>
          <p:spPr>
            <a:xfrm>
              <a:off x="765000" y="4211640"/>
              <a:ext cx="36003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 televisión: Imagen y so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de las pinturas rupestres hasta la cámara fotográfica, el ser humano siempre ha buscado difundir aspectos de sí mismo y del mundo que lo rodea. La televisión es el medio óptimo para esto, pues no solo combina y transmite el sonido e imagen, sino que también se ha convertido en un vehículo de enorme influencia en el mundo actual.</a:t>
              </a:r>
              <a:endParaRPr b="0" lang="en-US" sz="1200" spc="-1" strike="noStrike">
                <a:solidFill>
                  <a:srgbClr val="000000"/>
                </a:solidFill>
                <a:latin typeface="Arial"/>
              </a:endParaRPr>
            </a:p>
          </p:txBody>
        </p:sp>
        <p:pic>
          <p:nvPicPr>
            <p:cNvPr id="116" name="" descr=""/>
            <p:cNvPicPr/>
            <p:nvPr/>
          </p:nvPicPr>
          <p:blipFill>
            <a:blip r:embed="rId3"/>
            <a:stretch/>
          </p:blipFill>
          <p:spPr>
            <a:xfrm>
              <a:off x="4653000" y="4140360"/>
              <a:ext cx="1368360" cy="911160"/>
            </a:xfrm>
            <a:prstGeom prst="rect">
              <a:avLst/>
            </a:prstGeom>
            <a:ln w="0">
              <a:noFill/>
            </a:ln>
          </p:spPr>
        </p:pic>
        <p:pic>
          <p:nvPicPr>
            <p:cNvPr id="117" name="" descr=""/>
            <p:cNvPicPr/>
            <p:nvPr/>
          </p:nvPicPr>
          <p:blipFill>
            <a:blip r:embed="rId4"/>
            <a:stretch/>
          </p:blipFill>
          <p:spPr>
            <a:xfrm>
              <a:off x="4581360" y="5076720"/>
              <a:ext cx="1571760" cy="1047600"/>
            </a:xfrm>
            <a:prstGeom prst="rect">
              <a:avLst/>
            </a:prstGeom>
            <a:ln w="0">
              <a:noFill/>
            </a:ln>
          </p:spPr>
        </p:pic>
      </p:grpSp>
      <p:sp>
        <p:nvSpPr>
          <p:cNvPr id="118" name=""/>
          <p:cNvSpPr/>
          <p:nvPr/>
        </p:nvSpPr>
        <p:spPr>
          <a:xfrm>
            <a:off x="404640" y="6372360"/>
            <a:ext cx="619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
          <p:cNvGrpSpPr/>
          <p:nvPr/>
        </p:nvGrpSpPr>
        <p:grpSpPr>
          <a:xfrm>
            <a:off x="907920" y="6659640"/>
            <a:ext cx="5388120" cy="1983960"/>
            <a:chOff x="907920" y="6659640"/>
            <a:chExt cx="5388120" cy="1983960"/>
          </a:xfrm>
        </p:grpSpPr>
        <p:sp>
          <p:nvSpPr>
            <p:cNvPr id="120" name=""/>
            <p:cNvSpPr/>
            <p:nvPr/>
          </p:nvSpPr>
          <p:spPr>
            <a:xfrm>
              <a:off x="907920" y="6730920"/>
              <a:ext cx="36003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 televisión: Imagen y so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de las pinturas rupestres hasta la cámara fotográfica, el ser humano siempre ha buscado difundir aspectos de sí mismo y del mundo que lo rodea. La televisión es el medio óptimo para esto, pues no solo combina y transmite el sonido e imagen, sino que también se ha convertido en un vehículo de enorme influencia en el mundo actual.</a:t>
              </a:r>
              <a:endParaRPr b="0" lang="en-US" sz="1200" spc="-1" strike="noStrike">
                <a:solidFill>
                  <a:srgbClr val="000000"/>
                </a:solidFill>
                <a:latin typeface="Arial"/>
              </a:endParaRPr>
            </a:p>
          </p:txBody>
        </p:sp>
        <p:pic>
          <p:nvPicPr>
            <p:cNvPr id="121" name="" descr=""/>
            <p:cNvPicPr/>
            <p:nvPr/>
          </p:nvPicPr>
          <p:blipFill>
            <a:blip r:embed="rId5"/>
            <a:stretch/>
          </p:blipFill>
          <p:spPr>
            <a:xfrm>
              <a:off x="4795920" y="6659640"/>
              <a:ext cx="1368360" cy="911160"/>
            </a:xfrm>
            <a:prstGeom prst="rect">
              <a:avLst/>
            </a:prstGeom>
            <a:ln w="0">
              <a:noFill/>
            </a:ln>
          </p:spPr>
        </p:pic>
        <p:pic>
          <p:nvPicPr>
            <p:cNvPr id="122" name="" descr=""/>
            <p:cNvPicPr/>
            <p:nvPr/>
          </p:nvPicPr>
          <p:blipFill>
            <a:blip r:embed="rId6"/>
            <a:stretch/>
          </p:blipFill>
          <p:spPr>
            <a:xfrm>
              <a:off x="4724280" y="7596000"/>
              <a:ext cx="1571760" cy="10476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981000" y="3708360"/>
            <a:ext cx="50608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ul Gottlieb Nipk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uenburg, hoy Lebork, Polonia, 1860-Berlín, 1940) Ingeniero alemán. Se graduó en su ciudad natal. Se le considera uno de los pioneros de la televisión. En 1884 inventó un elemento explorador de la imagen, conocido como disco de Nipkow, consistente en un disco metálico perforado por una serie de agujeros cuadrangulares dispuestos en espiral. Al imprimirle un movimiento giratorio, cada agujero recogía una señal de luz, de intensidad variable según fuera su desplazamiento frente al objeto que estaba analizando. No obstante, al tratarse de un invento que se adelantó a su tiempo, no tuvo mercado, por lo que el inventor alemán tuvo que seguir ejerciendo su profesión de ingeniero de ferrocarriles.</a:t>
            </a:r>
            <a:endParaRPr b="0" lang="en-US" sz="1800" spc="-1" strike="noStrike">
              <a:solidFill>
                <a:srgbClr val="000000"/>
              </a:solidFill>
              <a:latin typeface="Arial"/>
            </a:endParaRPr>
          </a:p>
        </p:txBody>
      </p:sp>
      <p:pic>
        <p:nvPicPr>
          <p:cNvPr id="124" name="" descr=""/>
          <p:cNvPicPr/>
          <p:nvPr/>
        </p:nvPicPr>
        <p:blipFill>
          <a:blip r:embed="rId1"/>
          <a:stretch/>
        </p:blipFill>
        <p:spPr>
          <a:xfrm>
            <a:off x="1844640" y="468360"/>
            <a:ext cx="2627280" cy="295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549360" y="2195640"/>
            <a:ext cx="5832360" cy="6192720"/>
          </a:xfrm>
          <a:prstGeom prst="rect">
            <a:avLst/>
          </a:prstGeom>
          <a:ln w="0">
            <a:noFill/>
          </a:ln>
        </p:spPr>
      </p:pic>
      <p:sp>
        <p:nvSpPr>
          <p:cNvPr id="126" name=""/>
          <p:cNvSpPr txBox="1"/>
          <p:nvPr/>
        </p:nvSpPr>
        <p:spPr>
          <a:xfrm>
            <a:off x="476280" y="539640"/>
            <a:ext cx="58341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ECEPCIÓN Y PROYECCIÓ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 </a:t>
            </a:r>
            <a:r>
              <a:rPr b="0" lang="en-US" sz="1800" spc="1" strike="noStrike">
                <a:ln w="0">
                  <a:noFill/>
                </a:ln>
                <a:solidFill>
                  <a:srgbClr val="336699"/>
                </a:solidFill>
                <a:effectLst>
                  <a:outerShdw dist="40186" dir="1096358" blurRad="0" rotWithShape="0">
                    <a:srgbClr val="b2b2b2">
                      <a:alpha val="80000"/>
                    </a:srgbClr>
                  </a:outerShdw>
                </a:effectLst>
                <a:latin typeface="Times New Roman"/>
              </a:rPr>
              <a:t>DE IMÁGEN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65000" y="539640"/>
            <a:ext cx="5373720" cy="3603600"/>
          </a:xfrm>
          <a:prstGeom prst="rect">
            <a:avLst/>
          </a:prstGeom>
          <a:ln w="0">
            <a:noFill/>
          </a:ln>
        </p:spPr>
      </p:pic>
      <p:sp>
        <p:nvSpPr>
          <p:cNvPr id="128" name=""/>
          <p:cNvSpPr/>
          <p:nvPr/>
        </p:nvSpPr>
        <p:spPr>
          <a:xfrm>
            <a:off x="907920" y="4356000"/>
            <a:ext cx="50612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ubo de rayos catód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ubo de Rayos Catódicos (CRT o Cathode Ray Tube en inglés), fue inventado por Karl Ferdinand Braun y a su desarrollo contribuyeron los trabajos de Philo Farnswor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componente es un dispositivo de visualización utilizado principalmente en monitores, televisiones y osciloscopios, aunque en la actualidad se tiende a ir sustituyéndolo paulatinamente por tecnologías como plasma, LCD, DLP,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92280" y="4356000"/>
            <a:ext cx="5329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Televisor primi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co antes de que comenzara la Segunda Guerra Mundial (1939-1945), se comercializó este aparato de televisión en Gran Bretaña, que también servía como receptor de radio. Su pantalla era de 18 cm (7 pulgadas) y las imágenes que reproducía eran de baja definición, ya que solo disponía de 180 líneas (actualmente, los televisores tienen 625). Su mayor desventaja era el alto consumo de energía que necesitaba para funcionar.</a:t>
            </a:r>
            <a:endParaRPr b="0" lang="en-US" sz="1800" spc="-1" strike="noStrike">
              <a:solidFill>
                <a:srgbClr val="000000"/>
              </a:solidFill>
              <a:latin typeface="Arial"/>
            </a:endParaRPr>
          </a:p>
        </p:txBody>
      </p:sp>
      <p:pic>
        <p:nvPicPr>
          <p:cNvPr id="130" name="" descr=""/>
          <p:cNvPicPr/>
          <p:nvPr/>
        </p:nvPicPr>
        <p:blipFill>
          <a:blip r:embed="rId1"/>
          <a:stretch/>
        </p:blipFill>
        <p:spPr>
          <a:xfrm>
            <a:off x="1700280" y="395280"/>
            <a:ext cx="3220920" cy="345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92280" y="4356000"/>
            <a:ext cx="532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antall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l tratar de obtener la imagen perfecta, se han desarrollado pantallas como las de LCD (Liquid Crystal Display) y las de plasma. Las primeras usan moléculas de cristal líquido, distribuidas en diferentes capas que rotan y se polarizan de acuerdo con el color que se quiere mostrar. La de plasma tiene miles de celdas que contienen un gas, el cual es activado por impulsos eléctricos que la hacen brillar con un color particular. y en el televisor.</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32" name="" descr=""/>
          <p:cNvPicPr/>
          <p:nvPr/>
        </p:nvPicPr>
        <p:blipFill>
          <a:blip r:embed="rId1"/>
          <a:stretch/>
        </p:blipFill>
        <p:spPr>
          <a:xfrm>
            <a:off x="1989000" y="684360"/>
            <a:ext cx="2687760" cy="273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52"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Televisor primitivo</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oco antes de que comenzara la Segunda Guerra Mundial (1939-1945), se comercializó este aparato de televisión en Gran Bretaña, que también servía como receptor de radio. Su pantalla era de 18 cm (7 pulgadas) y las imágenes que reproducía eran de baja definición, ya que solo disponía de 180 líneas (actualmente, los televisores tienen 625). Su mayor desventaja era el alto consumo de energía que necesitaba para funcionar.</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3" name="" descr=""/>
          <p:cNvPicPr/>
          <p:nvPr/>
        </p:nvPicPr>
        <p:blipFill>
          <a:blip r:embed="rId1"/>
          <a:stretch/>
        </p:blipFill>
        <p:spPr>
          <a:xfrm>
            <a:off x="2133720" y="6012000"/>
            <a:ext cx="2012760" cy="215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55"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Cámaras digital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televisión, ya se trabaja con cámaras capaces de realizar el proceso de codificación y grabación en forma digital, a diferencia de las análogas. Esto ha permitido agilizar la edición de video sin alterar la calidad de las imágenes y sonidos. Además, las cámaras actuales poseen sensores denominados CCD (Charge Couple Device), que permiten obtener una alta definición de las imágenes aun en las más diversas condiciones lumínica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6" name="" descr=""/>
          <p:cNvPicPr/>
          <p:nvPr/>
        </p:nvPicPr>
        <p:blipFill>
          <a:blip r:embed="rId1"/>
          <a:stretch/>
        </p:blipFill>
        <p:spPr>
          <a:xfrm>
            <a:off x="2060640" y="6227640"/>
            <a:ext cx="2016000" cy="19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58"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Televisión desde el espacio</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televisión satelital se popularizó en la última década del siglo pasado. Este sistema consiste en la recepción directa en el hogar de una señal recogida por satélites, la que, a su vez, es generada desde un centro emisor. Se diferencia de la transmisión vía satélite, porque en esta, la señal es bajada desde uno de estos artefactos por una estación receptora que luego la envía por cable o aire hasta las casas.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9" name="" descr=""/>
          <p:cNvPicPr/>
          <p:nvPr/>
        </p:nvPicPr>
        <p:blipFill>
          <a:blip r:embed="rId1"/>
          <a:stretch/>
        </p:blipFill>
        <p:spPr>
          <a:xfrm>
            <a:off x="2082960" y="5940360"/>
            <a:ext cx="2209680" cy="230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61"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Pantallas</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l tratar de obtener la imagen perfecta, se han desarrollado pantallas como las de LCD (Liquid Crystal Display) y las de plasma. Las primeras usan moléculas de cristal líquido, distribuidas en diferentes capas que rotan y se polarizan de acuerdo con el color que se quiere mostrar. La de plasma tiene miles de celdas que contienen un gas, el cual es activado por impulsos eléctricos que la hacen brillar con un color particular. y en el televisor.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62" name="" descr=""/>
          <p:cNvPicPr/>
          <p:nvPr/>
        </p:nvPicPr>
        <p:blipFill>
          <a:blip r:embed="rId1"/>
          <a:stretch/>
        </p:blipFill>
        <p:spPr>
          <a:xfrm>
            <a:off x="2133720" y="6012000"/>
            <a:ext cx="1981080" cy="201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64"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Imágenes por cable</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 la transmisión de señales televisivas a través de un anillo fibra óptica que recorre determinadas áreas de una ciudad, hasta los puntos de distribución que, luego, utilizando cables coaxiales (poseen conductores internos y externos), trasladan las señales a hogares conectados con un operador de cable. Este sistema permite que la imagen sea óptima, ya que no se ve afectada por las condiciones climáticas o geográficas del sector.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65" name="" descr=""/>
          <p:cNvPicPr/>
          <p:nvPr/>
        </p:nvPicPr>
        <p:blipFill>
          <a:blip r:embed="rId1"/>
          <a:stretch/>
        </p:blipFill>
        <p:spPr>
          <a:xfrm>
            <a:off x="2133720" y="5796000"/>
            <a:ext cx="210348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67"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Digitalizació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la televisión digital, la imagen y sonido se convierten directamente en bits, 1 y 0. Los computadores los procesan y manipulan con la ventaja de eliminar los datos repetidos mediante la compresión. Esta tecnología, a la vez que mejora la calidad de la imagen, permite emitir cuatro canales donde antes había espacio solo para uno y enviar las señales por diferentes medios (cable, satélite, ADSL o telefonía móvil).</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68" name="" descr=""/>
          <p:cNvPicPr/>
          <p:nvPr/>
        </p:nvPicPr>
        <p:blipFill>
          <a:blip r:embed="rId1"/>
          <a:stretch/>
        </p:blipFill>
        <p:spPr>
          <a:xfrm>
            <a:off x="2133720" y="6156360"/>
            <a:ext cx="1763640" cy="194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70" name=""/>
          <p:cNvGraphicFramePr/>
          <p:nvPr/>
        </p:nvGraphicFramePr>
        <p:xfrm>
          <a:off x="765000" y="1476360"/>
          <a:ext cx="5400720" cy="6912000"/>
        </p:xfrm>
        <a:graphic>
          <a:graphicData uri="http://schemas.openxmlformats.org/drawingml/2006/table">
            <a:tbl>
              <a:tblPr/>
              <a:tblGrid>
                <a:gridCol w="5400720"/>
              </a:tblGrid>
              <a:tr h="6912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elevisor "Octagon" de 1928</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71" name="" descr=""/>
          <p:cNvPicPr/>
          <p:nvPr/>
        </p:nvPicPr>
        <p:blipFill>
          <a:blip r:embed="rId1"/>
          <a:stretch/>
        </p:blipFill>
        <p:spPr>
          <a:xfrm>
            <a:off x="981000" y="3924360"/>
            <a:ext cx="4464000" cy="307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6T15:21:37Z</dcterms:created>
  <dc:creator>Preferred Customer</dc:creator>
  <dc:description/>
  <dc:language>en-US</dc:language>
  <cp:lastModifiedBy>Preferred Customer</cp:lastModifiedBy>
  <dcterms:modified xsi:type="dcterms:W3CDTF">2008-04-30T22:08:09Z</dcterms:modified>
  <cp:revision>5</cp:revision>
  <dc:subject/>
  <dc:title>La Televisión</dc:title>
</cp:coreProperties>
</file>